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39BF-3806-4964-81EB-B6BC5B3FA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94D1-5843-4349-A12B-0751A32C5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D299-6CBF-4EDC-9E0E-9DEE9D79E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9CC6-7E9E-4E75-8EC0-E4607B70A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CA5D-8086-42DD-9237-6BF498FC7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34C8-A849-4713-97E1-97C4E041A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2107-C45F-4FA5-A7AA-890D9264F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EE35-17CF-4AC8-B1E6-95ABE6DC2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37E1-0A0C-4009-BE44-D26187456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E3D7-C473-4962-AD8F-BA1203281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A67A-0DF9-4F62-9C0E-6B597084C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DFB0-E7FD-4749-82EF-08F4C7C0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E6DCB-92A6-47BA-A298-F8EDA9C6F1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012000" y="4508640"/>
            <a:ext cx="2952720" cy="16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signing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with Sketchup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4360" y="189000"/>
            <a:ext cx="7561080" cy="431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Learning With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Resolution Room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258920" y="4076640"/>
            <a:ext cx="4537080" cy="237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What shape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buildings would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we like to live in ?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?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851280" y="836640"/>
            <a:ext cx="4400640" cy="48672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179280" y="692280"/>
            <a:ext cx="3313080" cy="53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Did you know that objects look very different when you look at them from different plac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You can look at them from behind and above and underneath and from the s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is is called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Perspectiv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487840" y="4456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95280" y="1125360"/>
            <a:ext cx="5334120" cy="43340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48" name=""/>
          <p:cNvSpPr/>
          <p:nvPr/>
        </p:nvSpPr>
        <p:spPr>
          <a:xfrm>
            <a:off x="6084720" y="981000"/>
            <a:ext cx="280836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We were learning about 3 D shapes. D stands for dimensions like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How high, how deep and how w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We wanted to design some new building shapes to help us learn more about Perspective and Dimens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Our teacher found google 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Sketch Up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for us to work 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Here is some of our 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76720" y="93600"/>
            <a:ext cx="4067280" cy="39020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2995560"/>
            <a:ext cx="4932360" cy="38624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51" name=""/>
          <p:cNvSpPr txBox="1"/>
          <p:nvPr/>
        </p:nvSpPr>
        <p:spPr>
          <a:xfrm>
            <a:off x="468360" y="765000"/>
            <a:ext cx="4032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3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Dyla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52" name=""/>
          <p:cNvSpPr/>
          <p:nvPr/>
        </p:nvSpPr>
        <p:spPr>
          <a:xfrm>
            <a:off x="5148360" y="422100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I like sketch up. My best is the yellow one because the roof looks different from the other s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24000" y="260280"/>
            <a:ext cx="40320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3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Juliean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780000" y="1773360"/>
            <a:ext cx="5163840" cy="45910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395280" y="2133720"/>
            <a:ext cx="302436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I drew a door and windows in the front but I didn’t have enough time to turn it round. Dylan gave me the idea. It was easy I asked him when I got stuck using the toolba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I’m going to use the pail to colour it in so you can inside it through. I’m helping people and I think I could design better with more practice because I’ve got good ideas. I’d like to do a c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395280" y="404640"/>
            <a:ext cx="345600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3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Luk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492360" y="2133720"/>
            <a:ext cx="5324760" cy="43624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324000" y="1989000"/>
            <a:ext cx="287964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First I drew a big square for the base then I pulled up the base to make the sides. There wasn’t a tool for a triangle so I got the pencil and drew two triangles for the roof. I went to backgrounds to make the bricks. My window and door sticks out because I designed it that w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Next time I think I could build a tower that you can walk all around, like my hou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95280" y="476280"/>
            <a:ext cx="324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3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Eri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39640" y="1773360"/>
            <a:ext cx="8310600" cy="47926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61" name=""/>
          <p:cNvSpPr/>
          <p:nvPr/>
        </p:nvSpPr>
        <p:spPr>
          <a:xfrm>
            <a:off x="3924360" y="333360"/>
            <a:ext cx="48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I decided to try designing a camera. I used a square for the base and  then I made a circle. When you pull a circle up to give it sides you make a cylin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395280" y="476280"/>
            <a:ext cx="324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3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Jessi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8424720" cy="43606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3924360" y="260280"/>
            <a:ext cx="489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I made a camera. I needed a square and a circle but I pulled then up to give them sides so they were a cylinder and a rectangle or oblong. They are 3 D shapes because they have length, they have width, and they have dep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92360" y="4437000"/>
            <a:ext cx="7056360" cy="936720"/>
          </a:xfrm>
          <a:prstGeom prst="rightArrow">
            <a:avLst>
              <a:gd name="adj1" fmla="val 50000"/>
              <a:gd name="adj2" fmla="val 188326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58920" y="2708280"/>
            <a:ext cx="433440" cy="2952720"/>
          </a:xfrm>
          <a:prstGeom prst="upArrow">
            <a:avLst>
              <a:gd name="adj1" fmla="val 50000"/>
              <a:gd name="adj2" fmla="val 170307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Wid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19280" y="5734080"/>
            <a:ext cx="504720" cy="863640"/>
          </a:xfrm>
          <a:prstGeom prst="downArrow">
            <a:avLst>
              <a:gd name="adj1" fmla="val 50000"/>
              <a:gd name="adj2" fmla="val 42778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Dep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68360" y="765000"/>
            <a:ext cx="8136000" cy="554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3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We have only started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learning about perspective,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but it's amazing to see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what our building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look like from different views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We want to try lots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1T22:24:15Z</dcterms:created>
  <dc:creator>Ministry of Education</dc:creator>
  <dc:description/>
  <dc:language>en-US</dc:language>
  <cp:lastModifiedBy>Ministry of Education</cp:lastModifiedBy>
  <dcterms:modified xsi:type="dcterms:W3CDTF">2009-10-21T23:29:22Z</dcterms:modified>
  <cp:revision>2</cp:revision>
  <dc:subject/>
  <dc:title>Slide 1</dc:title>
</cp:coreProperties>
</file>